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A785-38C9-4DF1-AA05-23947BA56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4AE2-5D72-40BB-A685-C5ABA2A9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4FE1-35C9-4C5A-BEFB-1090C9C0D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E322-A9F2-4B26-AEA1-4EF0D019A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06E3-AEBB-4BD7-B259-5C49A170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52B0-8FBE-4CD6-AA3E-90A54554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C20A-D2B0-477C-AC4E-BB07D573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AD8C-0A51-452D-9E38-57C17768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5BA2-D022-41A8-9A10-FF6AB3F2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148A-61F0-438A-979A-8F0A7A8B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04DE-3D71-40AE-985E-1C439F06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9962-998A-4AB4-93D7-9DC76725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0EB7-CE2E-45D2-8FA6-DB22054E1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73200" y="1844280"/>
            <a:ext cx="599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Stärk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34440" y="3789360"/>
            <a:ext cx="30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n Jenny und 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19998600">
            <a:off x="5795640" y="3573360"/>
            <a:ext cx="3132000" cy="2411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9208800">
            <a:off x="0" y="1051920"/>
            <a:ext cx="3384720" cy="19825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su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164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Gerät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 Becherglas (100 ml), Waage, Pipette, Glasstab als Rüh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Chemikali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od/Kaliumiodid-Lösung,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stilliertes Wasser,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g eines Stärkeproduktes (jede Gruppe ein anderes z.B. Maisstärke, Kartoffelmehl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Durchführu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b das Stärkeprodukt in das Becherglas. Füge etwas Wasser hinzu und rühre gut um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ge nun 5 bis 10 Tropfen Jod/Kaliumiodid-Lösung hinzu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gleiche die Reaktion mit den Ergebnissen anderer Grupp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ärkeverkleister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Wasser fast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unlöslic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steht zu 80% aus Amylopekt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uill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eim Erhitzen auf (40°C bis 60° 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5-87°C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Verkleisteru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kühlung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Verfestigu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ühle Temperaturen: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trograd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50920" y="5099040"/>
            <a:ext cx="2158920" cy="17240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408720" y="5084640"/>
            <a:ext cx="2158920" cy="1731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411280" y="544500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ärkekorn während der Quel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08360" y="5481720"/>
            <a:ext cx="17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ärkekorn während der Verkleist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hrung –Verdau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ast jeder pflanz. Nahrung enthal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chtigste Kohlenhydrat  menschlicher Ernähru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erdauu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lyse der Amylose zu Dextr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lyse des Amylopektin zu Dextr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xtrin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lt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tos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luc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rption der Glucose im D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wend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1305000"/>
            <a:ext cx="822960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bensmittelverarbeitu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rstellung von Cremes, Flammeries, 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nden von Suppen und Soß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ndfestmachen von Schlagsah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rstellung von Dextrinen und Traubenzuck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rstellung mehlhaltigen Nahrungsmitteln (z.B. Brot) und Nährmitt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izen von Baumwol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ur Färbung mit Anilinfarb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s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war bereits in der Antike bekannt </a:t>
            </a:r>
            <a:r>
              <a:rPr b="0" lang="de-DE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amyl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16. Jh.: Holländ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Herstellung großer Mengen Stärk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edeutendes Exportproduk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ärkeindustrie 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landwirtschaftliches Gewerb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unächst mäßige Ausbe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besserung Maschinen 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größere Ausbe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wendung: in Tabletten als Bindemittel, Füllmittel, Sprengmitt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380360" y="1665360"/>
            <a:ext cx="1473120" cy="19112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Überbl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ärke allgem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mylo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mylopek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ärkeverkleister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hrung und Verdau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rwend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Historisch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688000" y="1449360"/>
            <a:ext cx="2684520" cy="2879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3721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olysacchar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peicherform der Pflan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nergie durch enzymatischen Abb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in der Pflanze und bei der menschlichen Verdauu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winnung : Getreide, Kartoffeln, Mais &amp;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ärke allgem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eht aus 20% Amylose (wasserlösli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 aus 80% Amylopektin (unlösli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340000" y="3141720"/>
            <a:ext cx="417672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yl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steht aus 10 000 a-Glucose-Einhe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(1,4)-glykosidische Verbind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iegen in wässriger Lösung als Wendel v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1 Wendel </a:t>
            </a:r>
            <a:r>
              <a:rPr b="0" lang="de-D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5-6 Glucose-Einhe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84360" y="4005360"/>
            <a:ext cx="7850160" cy="2421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45440" y="465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5440" y="486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ylose Nachwe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gabe von Jod/Kaliumiodid-Lö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ufärb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d-Moleküle werden in Wendeln eingeschlo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ür Reaktion mü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did-Ionen vorhanden s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084720" y="3429000"/>
            <a:ext cx="2452680" cy="24955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ylopekt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steht aus 1 Mio.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-Glucose-Einhe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rundstruktur wie Amylose, nur verzweig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a. jeder 25. Glucose-Rest zusätzli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-(1,6)-glykosidisch verknüp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ylopekt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00000" y="2276640"/>
            <a:ext cx="7139160" cy="4073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3800" y="31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3933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00720" y="1700280"/>
            <a:ext cx="47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 ist di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-(1,6)-Verknüpfung ?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mylopektin-Nachwe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Jod/Kaliumiodid-Lö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 teilweise Einschlussverbind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ärbung: braun-viole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2T15:08:44Z</dcterms:created>
  <dc:creator>Becher</dc:creator>
  <dc:description/>
  <dc:language>en-US</dc:language>
  <cp:lastModifiedBy>Becher</cp:lastModifiedBy>
  <dcterms:modified xsi:type="dcterms:W3CDTF">2006-11-20T16:55:37Z</dcterms:modified>
  <cp:revision>15</cp:revision>
  <dc:subject/>
  <dc:title>Stärke</dc:title>
</cp:coreProperties>
</file>